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669A-FB17-49A7-9C28-911ABDF5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F014-BA2D-44F4-9B60-1155092D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B104-4792-48FC-A618-CBE89253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874A-A1AA-4A86-A9DC-EEE13983C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1AE5-C634-4C1B-9F83-A21A0F86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7DBA-4B3A-4A36-83A5-94A8450D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05E8-733E-4B8C-BEE4-DE5D32C8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B56B-0671-48FC-AA7A-6676D570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FFC6-3CCD-44DE-A822-DFEA2904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103B-132E-4D12-8A3F-531C8283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996B-FAF3-42DE-B902-B8676471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2FDA-CCC7-4B54-A006-2CF01764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C272-528F-4434-A988-53C24DC3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74AC-5D81-45F5-8EEB-EA54969F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8CF7-2638-46BB-B85D-02F000EF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BC4E-0F3B-44E5-B2B1-98EDE5813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7976-7B3C-4399-82A0-207AB13B6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A89BA-9211-4166-837E-2124E93D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4548B-6A76-450C-A73B-51AE5D73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A4D6C-50B3-4031-9A27-3A57391A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BFB85-D376-4C70-B94B-2309C540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9835B-667E-45F6-A21A-82AAAF27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77B1-96C2-4F01-9E6E-551CAB55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E73C4-FBF8-4408-8300-5D4124BB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7162E-AFE3-4FBC-ABEF-4433B580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AD5F6-5683-44B8-870C-FA181F32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CA1BE-4743-4A3A-B5EC-E39924FC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60C5D-4383-40B7-BD4A-53500DB7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CC07B-7EFC-4DE6-B453-B5DE3A34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D9A7A-F37B-4BDD-91AE-9DA7AA8E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C8623-C976-43E6-AB78-21E10B59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1D6E8-EFA1-4AF7-8AF0-11E395F7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1BBA3-1142-46B4-8FCD-5A1DA7AD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326B-8CF7-4546-A15B-615CA669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A2AB0-E9BB-4698-92F3-019B0835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BA710-7D2A-4E22-AFE9-3921CAA9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8DECB-22B6-42B7-A50B-561894C8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853B7-AFD3-4AE9-B8FA-3FA66977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4236C-1B9D-4A67-9732-371AC1A8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83086-2839-4B95-8059-90EACF45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0F328-60F0-4336-B42F-714D683A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C6F4E-1E86-4F7E-8D3C-A0151C17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06C95-AF7B-4088-A0C3-0B40D98AC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CE681-B62F-40DB-9538-72B3CF580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88D2-DB6B-4EDE-87F0-FFF081C2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44345-BE37-4924-9DBA-176BB262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B3788-43A3-4B02-AC16-0DD3DCAD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C17BF-CC17-4650-A95E-9C8F900E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2C9D2-CAF1-45D2-9144-281B54B9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DF230-52DD-4DF2-9AE1-8EDA409B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38538-D2A6-4856-AE3C-DBFFB48F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A8CCF-2373-4D22-921F-98DFDDAD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F4696-C5D7-4828-864F-80877764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D6A10-6922-4538-A194-BF67B85E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99215-0D37-4319-A960-AFE8ADDAD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9860-821E-4C1A-9361-1F794AF0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45600-F2BF-49E5-9088-B37F740B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099F-04BA-4CB8-9236-DDDB3E02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6EAE-53F0-4FA6-9124-A298E393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8470-9330-4495-9019-7ADCCF12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7160-D5DF-4794-9DC4-22F957DFCE35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41C7-083C-4ED7-BD25-0E609ADA3D6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6E63-D5AD-4BB6-B758-AF619D34C05B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7A48-0CAB-47CE-8F7F-ACFF45C387E9}" type="slidenum">
              <a:rPr b="0" lang="en-US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EB71-FB11-482B-8646-267EE1F39311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y; Danny and Dakot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o; Mrs.Chamber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24382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 symbol for a number we don't know yet. It is usually a letter like x or 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Example: in x + 2 = 6, x is the variabl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f it is not a variable it is called a Constant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ased on 10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ample: the numbers we use in everyday life are decimal numbers, because there are 10 of them (0,1,2,3,4,5,6,7,8 and 9)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ften "decimal number" is also used to mean a number that uses a decimal point followed by digits as a way of showing values less than one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ample: 1.9 is a decimal number (one and nine tenths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nteg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number with no fractional part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cludes the counting numbers {1, 2, 3, ...}, zero {0}, and the negative of the counting numbers {-1, -2, -3, ...}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You can write them down like this: {..., -3, -2, -1, 0, 1, 2, 3, ...}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xamples of integers: -16, -3, 0, 1, 198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4:09:30Z</dcterms:created>
  <dc:creator>danny.gilley</dc:creator>
  <dc:description/>
  <dc:language>en-US</dc:language>
  <cp:lastModifiedBy>lucy.chambers</cp:lastModifiedBy>
  <dcterms:modified xsi:type="dcterms:W3CDTF">2010-11-23T14:37:53Z</dcterms:modified>
  <cp:revision>5</cp:revision>
  <dc:subject/>
  <dc:title>vocabulary</dc:title>
</cp:coreProperties>
</file>